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14A-CE17-41CF-8E43-0C2F26B38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yourself. Welcome to Budgeting and Money Manage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1EF4-317D-4F70-8F6E-D40181BE04B4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art represents suggested guidelines to achieve a balanced budg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1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DEB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loans, credit cards, medical deb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3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OU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mortgage/rent, utilities, insurance, taxes, home mainte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AVI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0%: You should have at least 3 months income saved in an account for emergenc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1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RANSPORT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car payment, auto insurance, tag or license, maintenance, gas, par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nd no more than 25% of your net income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ncludes all other expenses such as food, clothing, entertainment, child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keep your budget updated often because each element of your budget will chang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F165-7A3C-4CF7-88CD-8554C0CE1B30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don’t already keep a budget, the concept can be pretty overwhelming. But in reality, without a budget it’s easy to overspend or under-save. If you are not budgeting, you need to ask yourself why. (Discuss with grou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a few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n’t like to see our finances on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we can budget in our h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eel we don’t hav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17316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milies, friends and colleagues don’t budget, why should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6778-3E73-463A-BB8A-ECF0500E8EE6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budgeting “Do’s and Don’ts” to help you get over you “budgeting fears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6E86-163C-41BF-8BAF-EBE361BF1D26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E1A-DDB1-44B7-AD2D-94D8D90E2105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ing is an important element in a budget. It will help you maintain your financial goals, even when you have to pay for unexpected expe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ction will address ways you can help increase the funds in your savings accou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E5E1-9C82-4914-A5BD-8533ABA76110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9DDE-93E5-4564-84A1-BAF8B3777644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033-3601-4EA4-BB4E-B23E58C1EEC3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E50-80FF-45A3-AB7F-CB4B56035AF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ing your spending habits may also provide another way you can sa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FF64-546A-4EF9-90D0-936BC2E8A41E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6B9E-848C-4B2F-A878-03E4F3D966F0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3D5-AF14-483C-A41F-46F2A5179AD2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199E-B33B-45A0-AC40-54336527658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AB7A-3C92-4AC7-98D5-8F7107106985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ve attendees take out Fritter Finder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 how much you spend in a week? If not, you might find this handout extremely helpful. For one week track every cent you spend. At the end of the week, you’ll be able to identify where your money go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FF31-4D60-4726-8EC9-07CEE5AE1E94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ection we will review a few money management tips that will help you stay within your budg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B73C-4F7C-4E64-9FC4-8741606DCA1C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s can use the Fritter Finder to guide them through these ste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344A-AAF1-4045-8429-1B9D9A6B47A5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C2E8-38B8-4297-A4D7-EE2F3C3664AF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C07-27DC-4960-9DC3-83C6BE744B01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B7C-FB3D-42CB-9F83-0F73AEFC80D0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EF8-A370-406F-97A0-DDBED26C5C25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6E5C-71CE-42D1-BCB5-4304B24C96FF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ncial concerns can be due to the lack of money, but not always. Sometimes a lack of financial planning can be the problem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ing where you are now financially and where you want to be in the future, will help you develop a budget to prevent a financial cris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33A3-AEBA-4185-A49F-31A11705F327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mind attendees to use the Money Management Planner and notes they took during the session to get them started on the path to wise budgeting and money manage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69B-964C-493E-8706-71B53B796D01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790-A554-482C-8594-03352565047C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stablishing financial goals it is helpful to separate them into short-term, mid-term, and long-term go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goals down so that you are able to maintain focus and gauge your progr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r goals are realistic. If your goal is to save $800.00 a month and you only make $1,000.00, you need to reevaluate your plan. Anytime you set a goal it should coincide with your budget; however, if you find that your goal exceeds the funds within your budget look at options to increase your income, i.e. reduce current spending, or consider a part-time job to acquire additional fun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A51-13E3-4815-B35F-01803A3E9525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3B14-E042-4011-858D-5949C0036809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dget is a plan to manage your money for a specified period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antages to having a budget: allows you to track spending, helps you save money (i.e. emergency expenses) and helps you prevent overspe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dget also provides peace of mind. If you have a budget you are aware of your spending habits; therefore, you are less likely to overdraft your accou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geting can also provide you with a sense of accomplishment as you work toward your financial go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8920-96E3-42DB-AEDC-8DAE9E4EC023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main components included in a budget—income and expe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termining your income be sure to include other sources such as alimony, child support, income from a spouse/second job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nses include goods and services that deduct money from your total inc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n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1731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(amounts do not change) example: loan pa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1731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(amounts change frequently) example: groc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1731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(amounts not paid monthly; can be fixed or variabl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car insurance and car repai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f you are uncertain of your current expenses, start small. Starting today, write down everything you have spent and keep track of your spending for a month. At the end of the month review your spending habits to determine a realistic budget for your expe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8FDC-77E2-4F5A-BC31-E940E23B9C4C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B021-2983-4A16-BB16-BE1AADA1F04C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income equals your expenses you are correctly allocating your f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udget reveals your income is greater than your expenses, you need to allocate more funds to your sav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udget reveals your expenses exceed your income, you will need to evaluate your spending pl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10CD-E588-4A95-AD52-1406D1C93E27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Date Placeholder 4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DBBB-90D6-4BA8-9281-E7755DA0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1282-9883-4E03-9C4C-C81AD3D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36BE-B4E0-4926-8E3B-C1B1652C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941D-A354-4163-A343-5F7277FD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0144-5AFC-4D98-8BE8-CB0F34C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C5C9-0852-4747-9AF4-0F03CBF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B429-4BA0-499B-B219-88F5BDD8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BD0A-F564-49CF-A7D4-2A8DE898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98E6-E0D0-4D6C-A452-84D5A3D8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9B94-5D05-46FB-8DAA-656D7F0F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0197-A138-48F0-9444-06C7E27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DBF8-E2DC-4DA8-A889-97068630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E993-B1CA-410F-A336-12ADE928A3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4495320"/>
            <a:ext cx="85914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75e47"/>
                </a:solidFill>
                <a:latin typeface="Cambria"/>
              </a:rPr>
              <a:t>Budgeting</a:t>
            </a:r>
            <a:r>
              <a:rPr b="1" lang="en-US" sz="4000" spc="-1" strike="noStrike">
                <a:solidFill>
                  <a:srgbClr val="675e47"/>
                </a:solidFill>
                <a:latin typeface="Cambria"/>
              </a:rPr>
              <a:t> and Money Management  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1" name="Picture 4" descr="SECU black (the good one).gif"/>
          <p:cNvPicPr/>
          <p:nvPr/>
        </p:nvPicPr>
        <p:blipFill>
          <a:blip r:embed="rId1"/>
          <a:stretch/>
        </p:blipFill>
        <p:spPr>
          <a:xfrm>
            <a:off x="6022800" y="6394320"/>
            <a:ext cx="243864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33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Guideline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75" name="Object 8"/>
          <p:cNvGraphicFramePr/>
          <p:nvPr/>
        </p:nvGraphicFramePr>
        <p:xfrm>
          <a:off x="457200" y="2057400"/>
          <a:ext cx="7620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7620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The concept of keeping a budget can be complicated, but it doesn’t have to be!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03600" y="359424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Do’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nk of your budget as an ongoing planning device—a way to reach your financial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Prioritize your financial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Limit budget projections to a couple of months ahead until you get the hang of i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Don’t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think of your budget as inflexibl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get frustrated if you </a:t>
            </a:r>
            <a:r>
              <a:rPr b="0" lang="en-US" sz="3200" spc="-1" strike="noStrike" u="sng">
                <a:solidFill>
                  <a:srgbClr val="2f2b20"/>
                </a:solidFill>
                <a:uFillTx/>
                <a:latin typeface="Calibri"/>
              </a:rPr>
              <a:t>at firs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don’t reach your targeted budget. Be prepared to modify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give up! With confidence you can make a budget that works best for you!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Saving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371600" y="2122560"/>
            <a:ext cx="603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Pay Yourself Firs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YOU ARE THE MOST IMPORTANT EXPENSE!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ach time you are paid, set aside a portion of your check to go into a savings accoun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s ensures you are able to pay for things that are important to you and establishes an emergency fund. 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How Much Is A Enough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t aside at least 10-15% of your paycheck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you can’t set aside 10-15%, set aside as much as you can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nk of saving your money as a bill you have to pay each month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How Can I Save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inancial Institution: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Your financial institution can automatically transfer a specified amount from your checking account to your savings account every pay period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mployer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f your employer offers Payroll Deduction, specify an amount from your check to be deposited to your savings account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Spending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3541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Did You Know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e average person spends money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3 times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a day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Putting aside every coin you touch usually results in saving about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$50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a month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$5 sandwich usually has less than $1 worth of ingredient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Topics of Discus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Financial Goal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stablishing a Budge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aving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pending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Money Management Tip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What If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You purchased a soda every day for 1 year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You went out to eat 3 times a week for 1 year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6" descr="MPj04304720000[1]"/>
          <p:cNvPicPr/>
          <p:nvPr/>
        </p:nvPicPr>
        <p:blipFill>
          <a:blip r:embed="rId1"/>
          <a:srcRect l="0" t="13160" r="13160" b="0"/>
          <a:stretch/>
        </p:blipFill>
        <p:spPr>
          <a:xfrm>
            <a:off x="4876920" y="2133720"/>
            <a:ext cx="25160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Resul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a soda costs $.75,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you would spend $273.75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(365 days per year x $.75 =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$273.75)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it costs $8.00 each time you eat out, 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you would spend $1,248.00!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(3 days x $8.00 = $24.00/week)</a:t>
            </a: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(52 weeks x $24.00 = $1,248.00)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ritter Finder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8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Get a realistic view of your spending. For one week, write down </a:t>
            </a:r>
            <a:r>
              <a:rPr b="0" lang="en-US" sz="3600" spc="-1" strike="noStrike" u="sng">
                <a:solidFill>
                  <a:srgbClr val="2f2b20"/>
                </a:solidFill>
                <a:uFillTx/>
                <a:latin typeface="Calibri"/>
              </a:rPr>
              <a:t>everything you spend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dentify areas you can cut back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mphasize your needs rather than your wants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04920" y="63244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Limit your money access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void areas where you are most tempted to spend money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on’t use your card at ATMs that will charge you a fee (surcharge).  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60948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f available, consider using store lay-away plans, you are required to pay for the entire purchase before you receive i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lways carry a shopping list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reat yourself in small ways rather than spending a lot of money on big purchase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2860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Money Management Ti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t financial goals for debts you want to pay off. Be specific and assign a date by which to achieve these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lways pay your bills on time. If a bill is going to be late, contact the creditor immediately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Build an emergency fund equal to at least 3 months' salary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75e47"/>
                </a:solidFill>
                <a:uFillTx/>
                <a:latin typeface="Cambria"/>
              </a:rPr>
              <a:t>Steps to a Bright Financial Future 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rganize your financial document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rack your spending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Be a selective shopper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valuate your deb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75e47"/>
                </a:solidFill>
                <a:uFillTx/>
                <a:latin typeface="Cambria"/>
              </a:rPr>
              <a:t>Steps to a Bright Financial Futur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educe your deb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Build a strong credit repor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ave for your future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Content Placeholder 4" descr=""/>
          <p:cNvPicPr/>
          <p:nvPr/>
        </p:nvPicPr>
        <p:blipFill>
          <a:blip r:embed="rId1"/>
          <a:stretch/>
        </p:blipFill>
        <p:spPr>
          <a:xfrm>
            <a:off x="4718160" y="1536840"/>
            <a:ext cx="30607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inancial Go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39146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75e47"/>
                </a:solidFill>
                <a:uFillTx/>
                <a:latin typeface="Cambria"/>
              </a:rPr>
              <a:t>Steps to a Bright Financial Futur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t financial goals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reate a budget.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9a57c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Invest money to achieve your goal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Content Placeholder 10" descr=""/>
          <p:cNvPicPr/>
          <p:nvPr/>
        </p:nvPicPr>
        <p:blipFill>
          <a:blip r:embed="rId1"/>
          <a:stretch/>
        </p:blipFill>
        <p:spPr>
          <a:xfrm>
            <a:off x="4722840" y="1536840"/>
            <a:ext cx="3051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5438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QUESTIONS?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26" name="Picture 2" descr="SECU black (the good one).gif"/>
          <p:cNvPicPr/>
          <p:nvPr/>
        </p:nvPicPr>
        <p:blipFill>
          <a:blip r:embed="rId1"/>
          <a:stretch/>
        </p:blipFill>
        <p:spPr>
          <a:xfrm>
            <a:off x="6022800" y="6394320"/>
            <a:ext cx="24386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inancial Go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hort-term goals are achieved in under one year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id-term goals are achieved in one to five years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ng-term goals are achieved in more than five years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Content Placeholder 6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2514600" cy="3770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609480" y="6172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balancepro.n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Financial Goal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efine your goals—What do you want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et an amount—How much money do you need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et a target date—When do you need to meet your goal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Develop a plan—Establish a budget that includes your financial goals.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-31680" y="63244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formation provided by smartaboutmoney.or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 plan to manage your money for a specified period of time. 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3" descr="Money 3.jpg"/>
          <p:cNvPicPr/>
          <p:nvPr/>
        </p:nvPicPr>
        <p:blipFill>
          <a:blip r:embed="rId1"/>
          <a:stretch/>
        </p:blipFill>
        <p:spPr>
          <a:xfrm>
            <a:off x="2743200" y="335268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dgeting Components: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Incom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Expenses: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7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xed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7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7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Periodic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Picture 3" descr="Money 16.jpg"/>
          <p:cNvPicPr/>
          <p:nvPr/>
        </p:nvPicPr>
        <p:blipFill>
          <a:blip r:embed="rId1"/>
          <a:stretch/>
        </p:blipFill>
        <p:spPr>
          <a:xfrm>
            <a:off x="4343400" y="220968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Budgeting Outl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1: Determine Income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alary, Alimony, Child support, Dividends..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2: Determine Expenses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ist and categorize each expense (fixed, variable, periodic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3: Analyze Budget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mpare Income and Exp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f2b20"/>
                </a:solidFill>
                <a:latin typeface="Calibri"/>
              </a:rPr>
              <a:t>Step 4: Keep Track of your Budget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Review your finances on a monthly basis and make changes when necessary.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675e47"/>
                </a:solidFill>
                <a:uFillTx/>
                <a:latin typeface="Cambria"/>
              </a:rPr>
              <a:t>Sample Budget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371600"/>
          <a:ext cx="6934320" cy="512136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check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com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tgage/Re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5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 Loa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Loa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ties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1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ic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cb6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Insuran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6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Expens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00.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45:16Z</dcterms:created>
  <dc:creator>s22030n</dc:creator>
  <dc:description/>
  <dc:language>en-US</dc:language>
  <cp:lastModifiedBy>Staff</cp:lastModifiedBy>
  <cp:lastPrinted>2013-07-22T21:03:19Z</cp:lastPrinted>
  <dcterms:modified xsi:type="dcterms:W3CDTF">2014-10-29T19:52:46Z</dcterms:modified>
  <cp:revision>96</cp:revision>
  <dc:subject/>
  <dc:title>The Fundamentals of a Budget</dc:title>
</cp:coreProperties>
</file>